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2.jpeg" ContentType="image/jpeg"/>
  <Override PartName="/ppt/media/image20.wmf" ContentType="image/x-wmf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14120" y="725040"/>
            <a:ext cx="483084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453ABDE-B53F-43FD-8908-848BAF66A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FEA0F5-F116-44A8-AA27-AB762DFC2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C679A42-BAFF-486D-B6F6-F7EDC3307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8B45CBF-D2FB-4343-BFEE-D6A80DFDB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8F7AE24-D053-4ED2-A46A-E3AEBD427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do: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client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C408D84-7AB3-4A09-8389-A866B90DD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2658408-1156-4D33-8807-05452220A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A2E058E-05B5-418B-A720-558E57CC4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icture; client, client request,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D2B743B-65E6-4AA0-8AA5-E2A38DDA2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FFAF456-F81C-4D72-AA09-B0943AD14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23F4EC7-C689-4DD1-B726-5DDC5CCFD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73A0469-1FC5-4D61-AF43-81A37D5EF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AE221E3-EE7C-41CA-B00F-5093892B3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FAC4B6C-AC21-4A62-BD3A-4E0CABA42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129CFE7-58F4-424F-8197-D09325069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9C12E78-8F05-49B5-9D8C-56971AAFF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11830D2-0271-48D6-8779-5468AAEA6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EE83431-2B94-4F2C-AD13-D2D53A0D6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0014BB2-C8BC-454A-91DC-DAE048348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C480242-7B40-438E-99A4-58D330018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2617659-87CE-4A28-9E1F-6319439A2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09C0A2C-FFCA-421C-AF44-ABDDBB26F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E2C85E9-CFC1-4D4C-B0D0-CF62BBEFB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0384E64-138C-47E2-AE64-17BFDDCC1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020DE9E-E4A6-40A1-AAE0-2A9AD355B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24C8971-17EC-483B-BF50-053967B7B6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B2B3A47-1A48-4CC1-B081-5C9774A9F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E532E4F-BCCF-4C31-9565-7610AC5640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FF5B4CD-6442-450E-89CD-E731EF20D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1E106A5-4C2A-49DF-9DA4-EAF5C242D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B9F4036-F38C-4001-A5D1-5E782D837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04B142B-0DE7-4C91-8F8E-D6E9B73BB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E54BAF9-E5B6-47EF-BED0-9672F2E60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B792FAD-982F-49B2-9B7C-8A6F37CA1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808175F-54AB-43AE-8E9A-8D67CDEB8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89EB97A-28CF-416D-98E8-C251DB2E4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DB319E9-4B0E-4F24-B365-03E66FCA5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0360D4B-9BFF-4574-80CA-B8D74282F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8FB030E-D0B4-48AB-B04B-2EAB0E329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D9A7318-DE30-483F-A48F-55CAB9B50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persona cards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8BCE296-FA3D-41A7-8799-A56CE62D8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E9346AF-0DB9-4D44-B8F1-CF29DE5FC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287-7A57-4B5F-8B76-EACDACF5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C04-F6F8-47B0-83A9-1AA3C768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1BF-C499-4F5E-9B61-13E06735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BFC-2A46-4C5A-B5A9-E9D3F55B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ED4-FCD5-4404-A3C0-BB684451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C66-E77D-4F2F-8362-7279612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281-B968-442A-945A-08268102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4C1-8B97-4AB2-A0BE-24040035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2EC-C019-4332-A0DC-28A5079A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908-D18C-4A32-A46A-0EE0496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D19-D059-477F-AFB0-D5337442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691-7615-4A26-B89C-7535B85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159-922E-44AB-87A8-6E7360DD6E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rtia 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cal Van Cauwenber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urent Mori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© Vera Peeters et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éléchargez sur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etra.png"/>
          <p:cNvPicPr/>
          <p:nvPr/>
        </p:nvPicPr>
        <p:blipFill>
          <a:blip r:embed="rId1"/>
          <a:stretch/>
        </p:blipFill>
        <p:spPr>
          <a:xfrm>
            <a:off x="5867280" y="1676520"/>
            <a:ext cx="3132360" cy="4876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mand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ent satis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0 € par point de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satisfaction descend à 0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lien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ent gagner de l’argen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5842080" y="4724280"/>
            <a:ext cx="3149640" cy="6480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mandes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toutes les histoires sont implémentées et mis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ven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combien le client pa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satisfaction client augmente de ce nombre d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hateau.png"/>
          <p:cNvPicPr/>
          <p:nvPr/>
        </p:nvPicPr>
        <p:blipFill>
          <a:blip r:embed="rId1"/>
          <a:stretch/>
        </p:blipFill>
        <p:spPr>
          <a:xfrm>
            <a:off x="4478400" y="3711600"/>
            <a:ext cx="443700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18"/>
          <p:cNvSpPr/>
          <p:nvPr/>
        </p:nvSpPr>
        <p:spPr>
          <a:xfrm>
            <a:off x="5105520" y="4495680"/>
            <a:ext cx="761760" cy="517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mande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5865840" y="4419720"/>
            <a:ext cx="763560" cy="5331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iez par revenu pu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imez la Valeur Métier de la De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hateau.png"/>
          <p:cNvPicPr/>
          <p:nvPr/>
        </p:nvPicPr>
        <p:blipFill>
          <a:blip r:embed="rId1"/>
          <a:stretch/>
        </p:blipFill>
        <p:spPr>
          <a:xfrm>
            <a:off x="4554360" y="3711600"/>
            <a:ext cx="4437360" cy="307008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9"/>
          <p:cNvSpPr/>
          <p:nvPr/>
        </p:nvSpPr>
        <p:spPr>
          <a:xfrm>
            <a:off x="6629400" y="4267080"/>
            <a:ext cx="1447920" cy="7621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1: Estimez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-1066680" y="4495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emière Ité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aleur Métier = Re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ires d’Utilisa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ires d’Utilisa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ût: estimé par les développ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696080" y="54864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2: Distribuez la Valeur Métier sur les His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leur Métier: </a:t>
            </a:r>
            <a:br>
              <a:rPr sz="32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VM(histoires) == VM (deman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320" y="43876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emière ité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M(histoire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M(demande) / # d’his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7710480" y="52578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3: Triez les histoires par Valeur Métier/Coû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ez la Valeur Métier/C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7696080" y="563868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Step-1-Prioritise-Stories-By-BV-Divided-By-Cost"/>
          <p:cNvPicPr/>
          <p:nvPr/>
        </p:nvPicPr>
        <p:blipFill>
          <a:blip r:embed="rId1"/>
          <a:srcRect l="0" t="11109" r="0" b="0"/>
          <a:stretch/>
        </p:blipFill>
        <p:spPr>
          <a:xfrm>
            <a:off x="2666880" y="18288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3: Triez les histoires par Valeur Métier/Coû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1488960"/>
                <a:gridCol w="1220760"/>
                <a:gridCol w="551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é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er les équi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ération 1 – Apprendre à jou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er l’itéra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rospective itérations 1 et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er les itérations 3 et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rospective itérations 3 et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uer les itérations 5 et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rospective et résum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Step-2-Sort-Stories-By-Theme"/>
          <p:cNvPicPr/>
          <p:nvPr/>
        </p:nvPicPr>
        <p:blipFill>
          <a:blip r:embed="rId1"/>
          <a:srcRect l="0" t="3870" r="8693" b="0"/>
          <a:stretch/>
        </p:blipFill>
        <p:spPr>
          <a:xfrm>
            <a:off x="4572000" y="3376440"/>
            <a:ext cx="4191120" cy="331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4: Alignez les histoires par Dem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ez le tri valeur métier/c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uvement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5: Sélectionnez les his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t: gagner de l’ar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il: la Valeur Mé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lients deviennent moins satisfaits quand ils doivent att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ules les demandes complètement implémentées et mises en production sont pay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5: Mise en prod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ouez la carte « Mise en production » pour mettre toutes les histoires complété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release.png"/>
          <p:cNvPicPr/>
          <p:nvPr/>
        </p:nvPicPr>
        <p:blipFill>
          <a:blip r:embed="rId1"/>
          <a:stretch/>
        </p:blipFill>
        <p:spPr>
          <a:xfrm>
            <a:off x="5943600" y="2819520"/>
            <a:ext cx="25909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5: Sélectionnez les his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élocité: 15 points de c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avez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886200" y="47242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nez les histoires sélectionnées aux développ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lldevs"/>
          <p:cNvPicPr/>
          <p:nvPr/>
        </p:nvPicPr>
        <p:blipFill>
          <a:blip r:embed="rId1"/>
          <a:stretch/>
        </p:blipFill>
        <p:spPr>
          <a:xfrm>
            <a:off x="3048120" y="3124080"/>
            <a:ext cx="29066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story.png"/>
          <p:cNvPicPr/>
          <p:nvPr/>
        </p:nvPicPr>
        <p:blipFill>
          <a:blip r:embed="rId1"/>
          <a:stretch/>
        </p:blipFill>
        <p:spPr>
          <a:xfrm>
            <a:off x="6477120" y="3124080"/>
            <a:ext cx="2286000" cy="341964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5"/>
          <p:cNvSpPr/>
          <p:nvPr/>
        </p:nvSpPr>
        <p:spPr>
          <a:xfrm>
            <a:off x="7696080" y="586728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élocité: 15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urs: indiquez les histoires «Fait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vez le plan d’it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émentez pour un maximum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15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2819520" y="476100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chateau.png"/>
          <p:cNvPicPr/>
          <p:nvPr/>
        </p:nvPicPr>
        <p:blipFill>
          <a:blip r:embed="rId1"/>
          <a:stretch/>
        </p:blipFill>
        <p:spPr>
          <a:xfrm>
            <a:off x="3200400" y="3200400"/>
            <a:ext cx="5122800" cy="3544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7: Mise à jour De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quez les histoires « Fait » sur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2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198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chateau.png"/>
          <p:cNvPicPr/>
          <p:nvPr/>
        </p:nvPicPr>
        <p:blipFill>
          <a:blip r:embed="rId1"/>
          <a:stretch/>
        </p:blipFill>
        <p:spPr>
          <a:xfrm>
            <a:off x="3200400" y="3200400"/>
            <a:ext cx="5122800" cy="354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7: Mise à jour De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quez les histoires « Fait » sur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quez les mises e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206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4800600" y="4965840"/>
            <a:ext cx="304920" cy="968400"/>
            <a:chOff x="4800600" y="4965840"/>
            <a:chExt cx="304920" cy="968400"/>
          </a:xfrm>
        </p:grpSpPr>
        <p:sp>
          <p:nvSpPr>
            <p:cNvPr id="211" name="Text Box 12"/>
            <p:cNvSpPr/>
            <p:nvPr/>
          </p:nvSpPr>
          <p:spPr>
            <a:xfrm>
              <a:off x="4800600" y="49658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800600" y="51944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800600" y="54212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4800600" y="564840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WordArt 17"/>
          <p:cNvSpPr txBox="1"/>
          <p:nvPr/>
        </p:nvSpPr>
        <p:spPr>
          <a:xfrm>
            <a:off x="1447920" y="41911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mptable remplit la feuille des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score.png"/>
          <p:cNvPicPr/>
          <p:nvPr/>
        </p:nvPicPr>
        <p:blipFill>
          <a:blip r:embed="rId2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SC00292"/>
          <p:cNvPicPr/>
          <p:nvPr/>
        </p:nvPicPr>
        <p:blipFill>
          <a:blip r:embed="rId1"/>
          <a:srcRect l="8219" t="17805" r="10963" b="9130"/>
          <a:stretch/>
        </p:blipFill>
        <p:spPr>
          <a:xfrm rot="21182400">
            <a:off x="609120" y="2514240"/>
            <a:ext cx="2895840" cy="196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0293"/>
          <p:cNvPicPr/>
          <p:nvPr/>
        </p:nvPicPr>
        <p:blipFill>
          <a:blip r:embed="rId2"/>
          <a:srcRect l="2497" t="9331" r="8002" b="8675"/>
          <a:stretch/>
        </p:blipFill>
        <p:spPr>
          <a:xfrm rot="687600">
            <a:off x="5257800" y="1980720"/>
            <a:ext cx="32767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SC00308"/>
          <p:cNvPicPr/>
          <p:nvPr/>
        </p:nvPicPr>
        <p:blipFill>
          <a:blip r:embed="rId3"/>
          <a:srcRect l="5997" t="11336" r="3504" b="10668"/>
          <a:stretch/>
        </p:blipFill>
        <p:spPr>
          <a:xfrm rot="20437200">
            <a:off x="2286000" y="3505320"/>
            <a:ext cx="3962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hoisissez un nom d’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"/>
          <p:cNvSpPr/>
          <p:nvPr/>
        </p:nvSpPr>
        <p:spPr>
          <a:xfrm>
            <a:off x="1523880" y="1447920"/>
            <a:ext cx="2590920" cy="30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eur Métier de toutes les Demand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ètement implém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"/>
          <p:cNvSpPr/>
          <p:nvPr/>
        </p:nvSpPr>
        <p:spPr>
          <a:xfrm>
            <a:off x="2952720" y="234144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venu total des toutes les Demand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ètement implém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5"/>
          <p:cNvSpPr/>
          <p:nvPr/>
        </p:nvSpPr>
        <p:spPr>
          <a:xfrm>
            <a:off x="37339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production? O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457200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 mise en production: tout le Revenu Potentiel depuis la dernière mise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53341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d’itération = Revenu Ré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69343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= ∑ Total d’ité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5"/>
          <p:cNvSpPr/>
          <p:nvPr/>
        </p:nvSpPr>
        <p:spPr>
          <a:xfrm>
            <a:off x="7848720" y="236232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ape 9: Mise à jour de la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n mise en production : Satisfaction -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duction: Satisfaction +=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Deman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53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Picture 3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9"/>
          <a:stretch/>
        </p:blipFill>
        <p:spPr>
          <a:xfrm>
            <a:off x="2451240" y="504180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0"/>
          <a:stretch/>
        </p:blipFill>
        <p:spPr>
          <a:xfrm>
            <a:off x="2070000" y="504180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11"/>
          <a:stretch/>
        </p:blipFill>
        <p:spPr>
          <a:xfrm>
            <a:off x="548640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12"/>
          <a:stretch/>
        </p:blipFill>
        <p:spPr>
          <a:xfrm>
            <a:off x="510552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13"/>
          <a:stretch/>
        </p:blipFill>
        <p:spPr>
          <a:xfrm>
            <a:off x="5867280" y="502452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14"/>
          <a:stretch/>
        </p:blipFill>
        <p:spPr>
          <a:xfrm>
            <a:off x="70102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15"/>
          <a:stretch/>
        </p:blipFill>
        <p:spPr>
          <a:xfrm>
            <a:off x="66294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16"/>
          <a:stretch/>
        </p:blipFill>
        <p:spPr>
          <a:xfrm>
            <a:off x="73915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7"/>
          <a:stretch/>
        </p:blipFill>
        <p:spPr>
          <a:xfrm>
            <a:off x="7010280" y="541008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8"/>
          <a:stretch/>
        </p:blipFill>
        <p:spPr>
          <a:xfrm>
            <a:off x="662940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19"/>
          <a:stretch/>
        </p:blipFill>
        <p:spPr>
          <a:xfrm>
            <a:off x="739152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0"/>
          <a:stretch/>
        </p:blipFill>
        <p:spPr>
          <a:xfrm>
            <a:off x="4038480" y="5029200"/>
            <a:ext cx="1067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nus de V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chocolat pour chaque responsable de compte qui a mis une Demande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76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 de l’itér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 représentent chacun un des 5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10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Demandes en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imez la Valeur Métier des Demandes par compa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ariation de la Vélo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élioration du processus de mise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1: Estimez la Valeur Mé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2: Distribuez la Valeur Métier sur les Histo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3: Triez les Histoires par Valeur Métier/Coû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4: Alignez les Histoires par Dem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5: Sélectionnez  les His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7: Mise à jour des Dem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9: Mise à jour de la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85800" y="4700520"/>
            <a:ext cx="7543800" cy="0"/>
          </a:xfrm>
          <a:prstGeom prst="line">
            <a:avLst/>
          </a:prstGeom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5943600" y="4243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101"/>
                </a:solidFill>
                <a:latin typeface="Arial"/>
              </a:rPr>
              <a:t>Attendez 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2"/>
          <p:cNvSpPr txBox="1"/>
          <p:nvPr/>
        </p:nvSpPr>
        <p:spPr>
          <a:xfrm>
            <a:off x="6553080" y="3352680"/>
            <a:ext cx="243864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ée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our sur Invest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our sur Invest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5"/>
          <p:cNvSpPr/>
          <p:nvPr/>
        </p:nvSpPr>
        <p:spPr>
          <a:xfrm rot="20940600">
            <a:off x="6299280" y="2584080"/>
            <a:ext cx="5331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H="1">
            <a:off x="6858000" y="251460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I = 10% du Total au tour précédent, arrondi à la 100€ inférieu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9" descr="score.png"/>
          <p:cNvPicPr/>
          <p:nvPr/>
        </p:nvPicPr>
        <p:blipFill>
          <a:blip r:embed="rId1"/>
          <a:stretch/>
        </p:blipFill>
        <p:spPr>
          <a:xfrm>
            <a:off x="639720" y="1427040"/>
            <a:ext cx="8199360" cy="3144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tour sur Investis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"/>
          <p:cNvSpPr/>
          <p:nvPr/>
        </p:nvSpPr>
        <p:spPr>
          <a:xfrm rot="20940600">
            <a:off x="7129440" y="2575080"/>
            <a:ext cx="53352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 flipH="1">
            <a:off x="6476760" y="2514600"/>
            <a:ext cx="1600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tal d’itération = Revenu Réel + Retour sur Investisseme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6705720" y="281952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trospective Itérations 1 e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ndup Ré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10" name="Picture 13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4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5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16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7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s 3 e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s 3 e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1: Estimez la Valeur Métier 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2: Distribuez la Valeur Métier sur les Histo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3: Triez les Histoires par Valeur Métier/Coû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4: Alignez les Histoires par Dem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5: Sélectionnez  les His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6: Implémen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7: Mise à jour des Dem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8: Calculez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9: Mise à jour de la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6477120" y="6858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ée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trospective Itérations 3 e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trospective Stand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24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quipe de 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 la vélo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émente les his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 e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lldevs"/>
          <p:cNvPicPr/>
          <p:nvPr/>
        </p:nvPicPr>
        <p:blipFill>
          <a:blip r:embed="rId1"/>
          <a:stretch/>
        </p:blipFill>
        <p:spPr>
          <a:xfrm>
            <a:off x="5562720" y="3505320"/>
            <a:ext cx="2906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érations 5 e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térations 5 an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1: Estimez la Valeur Mé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2: Sélectionnez  les His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3: Implémen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4: Mise à jour des Dem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5: Calculez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pe 6: Mise à jour de la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5762520" y="42274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6629400" y="6858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ée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trospective Itérations 5 e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trospective Stand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38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Résumé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léchargez su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ttp://www.xp.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ir l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© Vera Peeters et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éléchargez sur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-7 joueurs par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ponsables de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quipe de 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 à jour les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 le respect des rè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countant"/>
          <p:cNvPicPr/>
          <p:nvPr/>
        </p:nvPicPr>
        <p:blipFill>
          <a:blip r:embed="rId1"/>
          <a:stretch/>
        </p:blipFill>
        <p:spPr>
          <a:xfrm>
            <a:off x="5715000" y="3429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Jeu de la Valeur Mé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ages des personnages sur l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oisissez votre 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Allez-y!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ut du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Gagner de l’arg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chateau.png"/>
          <p:cNvPicPr/>
          <p:nvPr/>
        </p:nvPicPr>
        <p:blipFill>
          <a:blip r:embed="rId1"/>
          <a:stretch/>
        </p:blipFill>
        <p:spPr>
          <a:xfrm>
            <a:off x="3792600" y="3200400"/>
            <a:ext cx="5122800" cy="3544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ttre des demandes e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s les histoires sont implémen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mises e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ent gagner de l’argen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5011560" y="4978440"/>
            <a:ext cx="304560" cy="1195200"/>
            <a:chOff x="5011560" y="4978440"/>
            <a:chExt cx="304560" cy="1195200"/>
          </a:xfrm>
        </p:grpSpPr>
        <p:sp>
          <p:nvSpPr>
            <p:cNvPr id="120" name="Text Box 5"/>
            <p:cNvSpPr/>
            <p:nvPr/>
          </p:nvSpPr>
          <p:spPr>
            <a:xfrm>
              <a:off x="501156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501156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501156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501156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5011560" y="58878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5392800" y="4965840"/>
            <a:ext cx="304560" cy="1195200"/>
            <a:chOff x="5392800" y="4965840"/>
            <a:chExt cx="304560" cy="1195200"/>
          </a:xfrm>
        </p:grpSpPr>
        <p:sp>
          <p:nvSpPr>
            <p:cNvPr id="126" name="Text Box 13"/>
            <p:cNvSpPr/>
            <p:nvPr/>
          </p:nvSpPr>
          <p:spPr>
            <a:xfrm>
              <a:off x="5392800" y="4965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5392800" y="5194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5392800" y="54212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5392800" y="56484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5392800" y="58752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8"/>
          <p:cNvSpPr/>
          <p:nvPr/>
        </p:nvSpPr>
        <p:spPr>
          <a:xfrm>
            <a:off x="4452840" y="4076640"/>
            <a:ext cx="101592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scal Van Cauwenberghe</cp:lastModifiedBy>
  <dcterms:modified xsi:type="dcterms:W3CDTF">2009-05-26T10:49:10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