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14120" y="725040"/>
            <a:ext cx="483084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A70CF1D-0992-488D-9902-13CF40782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5EF975F-555C-4F45-8254-CB8803C06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3EC0979-39EC-4D6A-9F29-EB1824BC2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42A5931-1E72-4DC6-B3CB-7F67D3221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E61BF4A-3A90-45B9-B9D4-655F1C6FB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do: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client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FE4B688-A313-4BA6-9B93-EA6CA26C5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45CFED-CBE2-449B-8FB7-0BB789F77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C147DE5-7E68-4550-BD6F-1829FD07E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icture; client, client request,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F3EDD70-6C90-413B-AFF6-E39B6AA43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0AC9FB3-15DF-4B1E-9683-E56432346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7F188EF-9716-4B80-A20F-0BB684F88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5FC9A19-DAD3-4DA3-A829-B76F4CB60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45FE6F9-A954-4025-AB91-807236F24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B50A2F-0B55-4787-A7AF-31A661281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208FD0A-B777-4E11-9838-039379DDE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0CCEAD1-92D2-498E-9FF6-585C151BE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B5742EF-9FED-44D6-BAB5-55B7A0DBF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402737B-B664-4A8A-B7DF-2A698CBED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4A8E08-3F57-4155-BDC0-E023F89CE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E5935E0-13F6-4F70-BAAC-96A9DE41C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6EAB6E6-E120-4B22-8EFA-1132E3C02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C77553-2732-4F61-9AA0-31BA4669F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34BC653-C927-4F96-8C80-042B7ED2D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F07423A-3DDE-4733-8C59-08ECCBF29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D4B93AF-C3ED-4855-9C28-06DDB5F82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E8305C-B78D-4658-8CEE-26343CECD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6767CA-4742-4E1C-9F5E-88826BD94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5FA1499-27AB-442F-B6F8-FF8781C22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10EE867-53BC-4B1F-BCAE-5D91E3C31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C16EB1C-F363-4225-905A-5CE383DBE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9BE96F4-9C0E-4F8E-9DF0-E7DF59856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8693E6F-9DAC-4A45-940F-C844B87AA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F23ED5-D1F6-440F-B448-360E5E2B7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4030923-4B33-4233-B3DE-FF5B67175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C845DE2-E8EF-450A-AB5D-1A643E798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C4D81E8-46C7-4A71-B576-03B03B302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3D6CACA-CC7E-4712-B870-704F77005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0114F3A-F4FE-4EC9-8679-B8429B4D9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47D0BA5-9078-434C-9D2E-D59CB3474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CF92C4A-B1FA-4279-A22B-87DE19085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persona cards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5F723E2-B533-47C9-94D7-7358C35D6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8569AA3-43C7-4C29-B702-F989711E3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D2C-4C8A-4DE5-9F72-874FE20B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DE7-5EF6-4929-8F42-F4ED690C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897-562B-4FD3-A031-B4D4BD1C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9A3-7143-4A63-B9DC-3D04F475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858-A627-475B-8473-7B1FEE2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5AF-68BE-4C00-A33F-243451C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159-060C-4310-AA59-B336B55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A6B-DF7F-49FF-92BC-552E6A50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6D3-37A9-4868-84C9-478A2577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A6F-54CA-4FEF-BEE1-4AD29A2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1F2-B102-410E-A97E-D00D8293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074-356E-4C1E-996B-F47A1FC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5824-9F6F-4999-96C0-4673C3954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ra Pe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scal Van Cauwenber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rtia 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wnload from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ke clients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100 € per happiness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en happiness is 0,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Client leave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70316" t="20670" r="4688" b="15334"/>
          <a:stretch/>
        </p:blipFill>
        <p:spPr>
          <a:xfrm>
            <a:off x="5765760" y="1676520"/>
            <a:ext cx="314964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ow can you earn m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5765760" y="4800600"/>
            <a:ext cx="314964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lient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3962520" y="3556080"/>
            <a:ext cx="4724280" cy="3149640"/>
          </a:xfrm>
          <a:prstGeom prst="rect">
            <a:avLst/>
          </a:prstGeom>
          <a:ln w="0">
            <a:noFill/>
          </a:ln>
        </p:spPr>
      </p:pic>
      <p:sp>
        <p:nvSpPr>
          <p:cNvPr id="142" name="Freeform 18"/>
          <p:cNvSpPr/>
          <p:nvPr/>
        </p:nvSpPr>
        <p:spPr>
          <a:xfrm>
            <a:off x="4800600" y="4343400"/>
            <a:ext cx="762120" cy="517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lient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hen all stories are implemented and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ncom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: how much you 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client happiness increase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is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5486400" y="4343400"/>
            <a:ext cx="76356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3962520" y="3556080"/>
            <a:ext cx="4724280" cy="3149640"/>
          </a:xfrm>
          <a:prstGeom prst="rect">
            <a:avLst/>
          </a:prstGeom>
          <a:ln w="0">
            <a:noFill/>
          </a:ln>
        </p:spPr>
      </p:pic>
      <p:sp>
        <p:nvSpPr>
          <p:cNvPr id="147" name="Freeform 9"/>
          <p:cNvSpPr/>
          <p:nvPr/>
        </p:nvSpPr>
        <p:spPr>
          <a:xfrm>
            <a:off x="6248520" y="4191120"/>
            <a:ext cx="1447560" cy="7617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1: Assign Business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ort by Income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ssign Business Value to Client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-1066680" y="4495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First ite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 Value =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ory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ory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: estimated by develop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696080" y="54864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usiness Value: </a:t>
            </a:r>
            <a:br>
              <a:rPr sz="32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BV(stories) == BV (reques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320" y="43876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First ite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BV(Story) = BV(request) / #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63" name="Freeform 9"/>
          <p:cNvSpPr/>
          <p:nvPr/>
        </p:nvSpPr>
        <p:spPr>
          <a:xfrm>
            <a:off x="7710480" y="533088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3: Sort stories by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/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alculate Business Value /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7"/>
          <p:cNvSpPr/>
          <p:nvPr/>
        </p:nvSpPr>
        <p:spPr>
          <a:xfrm>
            <a:off x="7696080" y="57150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Step-1-Prioritise-Stories-By-BV-Divided-By-Cost"/>
          <p:cNvPicPr/>
          <p:nvPr/>
        </p:nvPicPr>
        <p:blipFill>
          <a:blip r:embed="rId1"/>
          <a:srcRect l="0" t="11109" r="0" b="0"/>
          <a:stretch/>
        </p:blipFill>
        <p:spPr>
          <a:xfrm>
            <a:off x="2666880" y="18288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3: Sort stories by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/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br>
              <a:rPr sz="4000"/>
            </a:b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1488960"/>
                <a:gridCol w="1220760"/>
                <a:gridCol w="551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e teams and hand out mate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 1 and explain r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rief first two it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s 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rief iterations 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s 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debrief and conclu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Step-2-Sort-Stories-By-Theme"/>
          <p:cNvPicPr/>
          <p:nvPr/>
        </p:nvPicPr>
        <p:blipFill>
          <a:blip r:embed="rId1"/>
          <a:srcRect l="0" t="3870" r="8693" b="0"/>
          <a:stretch/>
        </p:blipFill>
        <p:spPr>
          <a:xfrm>
            <a:off x="4572000" y="3376440"/>
            <a:ext cx="4191120" cy="331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Keep value/cost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lide horizontally per reque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Goal: earn mo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ol: maximise business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lients become less happy the longer they have to wa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nly completed and released requests earn mo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5: Do we re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 release completed requests play the «Release» Story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rcRect l="68751" t="18667" r="5467" b="14666"/>
          <a:stretch/>
        </p:blipFill>
        <p:spPr>
          <a:xfrm>
            <a:off x="2819520" y="2743200"/>
            <a:ext cx="25905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ty: 15 story poi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886200" y="47242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and over all selected cards to the Development team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lldevs"/>
          <p:cNvPicPr/>
          <p:nvPr/>
        </p:nvPicPr>
        <p:blipFill>
          <a:blip r:embed="rId1"/>
          <a:stretch/>
        </p:blipFill>
        <p:spPr>
          <a:xfrm>
            <a:off x="3048120" y="3124080"/>
            <a:ext cx="29066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5"/>
          <p:cNvSpPr/>
          <p:nvPr/>
        </p:nvSpPr>
        <p:spPr>
          <a:xfrm>
            <a:off x="7696080" y="592452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ty: 15 stor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ment Team: mark stories «Don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llow the iter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liver up to a maximum 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of 15 stor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2819520" y="434340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eck off Done stories on Reques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2971800" y="312408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2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198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eck off Done stories on Reques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eck off released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2971800" y="312408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8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206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4800600" y="4965840"/>
            <a:ext cx="304920" cy="968400"/>
            <a:chOff x="4800600" y="4965840"/>
            <a:chExt cx="304920" cy="968400"/>
          </a:xfrm>
        </p:grpSpPr>
        <p:sp>
          <p:nvSpPr>
            <p:cNvPr id="211" name="Text Box 12"/>
            <p:cNvSpPr/>
            <p:nvPr/>
          </p:nvSpPr>
          <p:spPr>
            <a:xfrm>
              <a:off x="4800600" y="49658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800600" y="51944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800600" y="54212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4800600" y="564840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WordArt 17"/>
          <p:cNvSpPr txBox="1"/>
          <p:nvPr/>
        </p:nvSpPr>
        <p:spPr>
          <a:xfrm>
            <a:off x="1447920" y="41911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ccountant: fill in Iteration Sh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SC00292"/>
          <p:cNvPicPr/>
          <p:nvPr/>
        </p:nvPicPr>
        <p:blipFill>
          <a:blip r:embed="rId1"/>
          <a:srcRect l="8219" t="17805" r="10963" b="9130"/>
          <a:stretch/>
        </p:blipFill>
        <p:spPr>
          <a:xfrm rot="21182400">
            <a:off x="609120" y="2514240"/>
            <a:ext cx="2895840" cy="196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0293"/>
          <p:cNvPicPr/>
          <p:nvPr/>
        </p:nvPicPr>
        <p:blipFill>
          <a:blip r:embed="rId2"/>
          <a:srcRect l="2497" t="9331" r="8002" b="8675"/>
          <a:stretch/>
        </p:blipFill>
        <p:spPr>
          <a:xfrm rot="687600">
            <a:off x="5257800" y="1980720"/>
            <a:ext cx="32767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SC00308"/>
          <p:cNvPicPr/>
          <p:nvPr/>
        </p:nvPicPr>
        <p:blipFill>
          <a:blip r:embed="rId3"/>
          <a:srcRect l="5997" t="11336" r="3504" b="10668"/>
          <a:stretch/>
        </p:blipFill>
        <p:spPr>
          <a:xfrm rot="20437200">
            <a:off x="2286000" y="3505320"/>
            <a:ext cx="3962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cide on Team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"/>
          <p:cNvSpPr/>
          <p:nvPr/>
        </p:nvSpPr>
        <p:spPr>
          <a:xfrm>
            <a:off x="1523880" y="1447920"/>
            <a:ext cx="2590920" cy="30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usiness Value of all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5"/>
          <p:cNvSpPr/>
          <p:nvPr/>
        </p:nvSpPr>
        <p:spPr>
          <a:xfrm>
            <a:off x="29718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income of all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5"/>
          <p:cNvSpPr/>
          <p:nvPr/>
        </p:nvSpPr>
        <p:spPr>
          <a:xfrm>
            <a:off x="37339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id you release? Y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45720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f released: all unreleased Pot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lse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5"/>
          <p:cNvSpPr/>
          <p:nvPr/>
        </p:nvSpPr>
        <p:spPr>
          <a:xfrm>
            <a:off x="53341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 Total = Earn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"/>
          <p:cNvSpPr/>
          <p:nvPr/>
        </p:nvSpPr>
        <p:spPr>
          <a:xfrm>
            <a:off x="69343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unning Total = ∑ Iteration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"/>
          <p:cNvSpPr/>
          <p:nvPr/>
        </p:nvSpPr>
        <p:spPr>
          <a:xfrm>
            <a:off x="78487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9: Update each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lient's Happ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o release : Happiness -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d   : Happiness += Reques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6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Picture 3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9"/>
          <a:stretch/>
        </p:blipFill>
        <p:spPr>
          <a:xfrm>
            <a:off x="2451240" y="504180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0"/>
          <a:stretch/>
        </p:blipFill>
        <p:spPr>
          <a:xfrm>
            <a:off x="2070000" y="504180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1"/>
          <a:stretch/>
        </p:blipFill>
        <p:spPr>
          <a:xfrm>
            <a:off x="548640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12"/>
          <a:stretch/>
        </p:blipFill>
        <p:spPr>
          <a:xfrm>
            <a:off x="510552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13"/>
          <a:stretch/>
        </p:blipFill>
        <p:spPr>
          <a:xfrm>
            <a:off x="5867280" y="502452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14"/>
          <a:stretch/>
        </p:blipFill>
        <p:spPr>
          <a:xfrm>
            <a:off x="70102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15"/>
          <a:stretch/>
        </p:blipFill>
        <p:spPr>
          <a:xfrm>
            <a:off x="66294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16"/>
          <a:stretch/>
        </p:blipFill>
        <p:spPr>
          <a:xfrm>
            <a:off x="73915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17"/>
          <a:stretch/>
        </p:blipFill>
        <p:spPr>
          <a:xfrm>
            <a:off x="7010280" y="541008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18"/>
          <a:stretch/>
        </p:blipFill>
        <p:spPr>
          <a:xfrm>
            <a:off x="662940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19"/>
          <a:stretch/>
        </p:blipFill>
        <p:spPr>
          <a:xfrm>
            <a:off x="739152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0"/>
          <a:stretch/>
        </p:blipFill>
        <p:spPr>
          <a:xfrm>
            <a:off x="4038480" y="5029200"/>
            <a:ext cx="1067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ales B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ne chocolate bonus for each salesperson who has a released Requ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83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nd of Iter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5 Salespeople repres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10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xtra client requests and story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stimate Business Value by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er Velocity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ep 1: Assign Busines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ort stories by Business Value/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9: Update each Client's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85800" y="4700520"/>
            <a:ext cx="7543800" cy="0"/>
          </a:xfrm>
          <a:prstGeom prst="line">
            <a:avLst/>
          </a:prstGeom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5943600" y="4243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101"/>
                </a:solidFill>
                <a:latin typeface="Arial"/>
              </a:rPr>
              <a:t>Wai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2"/>
          <p:cNvSpPr txBox="1"/>
          <p:nvPr/>
        </p:nvSpPr>
        <p:spPr>
          <a:xfrm>
            <a:off x="6291360" y="28195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tio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1"/>
          <a:stretch/>
        </p:blipFill>
        <p:spPr>
          <a:xfrm>
            <a:off x="685800" y="2111400"/>
            <a:ext cx="8024760" cy="322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2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1"/>
          <a:stretch/>
        </p:blipFill>
        <p:spPr>
          <a:xfrm>
            <a:off x="685800" y="2111400"/>
            <a:ext cx="8024760" cy="322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2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07" name="Freeform 5"/>
          <p:cNvSpPr/>
          <p:nvPr/>
        </p:nvSpPr>
        <p:spPr>
          <a:xfrm rot="20940600">
            <a:off x="6299280" y="3184200"/>
            <a:ext cx="5331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 flipH="1">
            <a:off x="6858000" y="312408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I = 10% of previous Total, rounded down to the nearest multiple of 100€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685800" y="2111400"/>
            <a:ext cx="8024760" cy="322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2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13" name="Freeform 5"/>
          <p:cNvSpPr/>
          <p:nvPr/>
        </p:nvSpPr>
        <p:spPr>
          <a:xfrm rot="20940600">
            <a:off x="7129440" y="3184560"/>
            <a:ext cx="53352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4"/>
          <p:cNvSpPr/>
          <p:nvPr/>
        </p:nvSpPr>
        <p:spPr>
          <a:xfrm flipH="1">
            <a:off x="6476760" y="3124080"/>
            <a:ext cx="1600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= Earned Value + RO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6705720" y="34290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brief iterations 1 an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up Re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2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20" name="Picture 13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4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5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6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7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s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s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ep 1: Assign Busines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ort stories by Business Value/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9: Update each Client's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tio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brief iterations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up Re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34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 repres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ment team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termine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mplements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uilds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lldevs"/>
          <p:cNvPicPr/>
          <p:nvPr/>
        </p:nvPicPr>
        <p:blipFill>
          <a:blip r:embed="rId1"/>
          <a:stretch/>
        </p:blipFill>
        <p:spPr>
          <a:xfrm>
            <a:off x="5562720" y="3505320"/>
            <a:ext cx="2906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s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s 5 an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ep 1: Assign Busines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ort stories by Business Value/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9: Update each Client's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tio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brief iteration 5 an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up Re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48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mmari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wnload from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ttp://www.xp.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e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wnload from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 repres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ment team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Keeps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erifie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ut all persona cards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Goal of th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Earn m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297180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ow can you earn m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l stories ar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4419720" y="4597560"/>
            <a:ext cx="304560" cy="1195200"/>
            <a:chOff x="4419720" y="4597560"/>
            <a:chExt cx="304560" cy="1195200"/>
          </a:xfrm>
        </p:grpSpPr>
        <p:sp>
          <p:nvSpPr>
            <p:cNvPr id="120" name="Text Box 5"/>
            <p:cNvSpPr/>
            <p:nvPr/>
          </p:nvSpPr>
          <p:spPr>
            <a:xfrm>
              <a:off x="4419720" y="45975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419720" y="48261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4419720" y="50529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4419720" y="52801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4419720" y="55069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800600" y="4584600"/>
            <a:ext cx="304560" cy="1195200"/>
            <a:chOff x="4800600" y="4584600"/>
            <a:chExt cx="304560" cy="1195200"/>
          </a:xfrm>
        </p:grpSpPr>
        <p:sp>
          <p:nvSpPr>
            <p:cNvPr id="126" name="Text Box 13"/>
            <p:cNvSpPr/>
            <p:nvPr/>
          </p:nvSpPr>
          <p:spPr>
            <a:xfrm>
              <a:off x="4800600" y="45846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4800600" y="48132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4800600" y="5040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800600" y="52671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4800600" y="54939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8"/>
          <p:cNvSpPr/>
          <p:nvPr/>
        </p:nvSpPr>
        <p:spPr>
          <a:xfrm>
            <a:off x="3860640" y="3695760"/>
            <a:ext cx="101628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scal Van Cauwenberghe</cp:lastModifiedBy>
  <dcterms:modified xsi:type="dcterms:W3CDTF">2009-05-18T18:44:27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